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embeddings/oleObject9.bin" ContentType="application/vnd.openxmlformats-officedocument.oleObject"/>
  <Override PartName="/ppt/embeddings/oleObject6.docx" ContentType="application/vnd.openxmlformats-officedocument.wordprocessingml.documen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0.bin" ContentType="application/vnd.openxmlformats-officedocument.oleObjec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docx" ContentType="application/vnd.openxmlformats-officedocument.wordprocessingml.document"/>
  <Override PartName="/ppt/embeddings/oleObject1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1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E15-C32F-4E28-AC33-4947495C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7DB-B04B-4AA4-9215-1DFC1CE5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E17-70C0-4039-9309-52A1F53F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8EC-47E9-4D26-B10A-BDA96AE7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05D-875A-403A-8247-B4F555D3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22A-8D5B-40C7-B2D2-21E1ECA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7BC-4910-4827-8790-A86D0110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22E-CF1F-4356-B828-F82992D4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210-87EF-405B-B52C-1D6E699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FD2-29E0-4461-A195-36FCF39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1F5-0173-4A10-8712-7FC095B7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2AB-D979-4BA1-8C58-D359E38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9CA6-D632-4BCE-B12A-EA48592D42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5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6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7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18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19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20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2.wmf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4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5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8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29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4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35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36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3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3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39.wmf"/><Relationship Id="rId26" Type="http://schemas.openxmlformats.org/officeDocument/2006/relationships/package" Target="../embeddings/oleObject11.docx"/><Relationship Id="rId27" Type="http://schemas.openxmlformats.org/officeDocument/2006/relationships/image" Target="../media/image40.wmf"/><Relationship Id="rId28" Type="http://schemas.openxmlformats.org/officeDocument/2006/relationships/package" Target="../embeddings/oleObject12.docx"/><Relationship Id="rId29" Type="http://schemas.openxmlformats.org/officeDocument/2006/relationships/image" Target="../media/image41.wmf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3492360" y="3068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4.2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阶线性齐次微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2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Object 2"/>
          <p:cNvGraphicFramePr/>
          <p:nvPr/>
        </p:nvGraphicFramePr>
        <p:xfrm>
          <a:off x="785880" y="851040"/>
          <a:ext cx="7540560" cy="27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851040"/>
                    <a:ext cx="75405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8"/>
          <p:cNvGraphicFramePr/>
          <p:nvPr/>
        </p:nvGraphicFramePr>
        <p:xfrm>
          <a:off x="1214280" y="2786040"/>
          <a:ext cx="7143840" cy="1357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7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14280" y="2786040"/>
                    <a:ext cx="714384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6"/>
          <p:cNvGraphicFramePr/>
          <p:nvPr/>
        </p:nvGraphicFramePr>
        <p:xfrm>
          <a:off x="642960" y="3571920"/>
          <a:ext cx="7715160" cy="109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60" y="3571920"/>
                    <a:ext cx="77151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7"/>
          <p:cNvGraphicFramePr/>
          <p:nvPr/>
        </p:nvGraphicFramePr>
        <p:xfrm>
          <a:off x="714240" y="5000760"/>
          <a:ext cx="7572600" cy="84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4240" y="5000760"/>
                    <a:ext cx="75726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0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探究新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Object 2"/>
          <p:cNvGraphicFramePr/>
          <p:nvPr/>
        </p:nvGraphicFramePr>
        <p:xfrm>
          <a:off x="857160" y="714240"/>
          <a:ext cx="7554960" cy="3673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714240"/>
                    <a:ext cx="75549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7"/>
          <p:cNvGraphicFramePr/>
          <p:nvPr/>
        </p:nvGraphicFramePr>
        <p:xfrm>
          <a:off x="714240" y="4643280"/>
          <a:ext cx="7667640" cy="1500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7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4240" y="4643280"/>
                    <a:ext cx="766764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6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2"/>
          <p:cNvGraphicFramePr/>
          <p:nvPr/>
        </p:nvGraphicFramePr>
        <p:xfrm>
          <a:off x="1000080" y="714240"/>
          <a:ext cx="5334120" cy="1600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714240"/>
                    <a:ext cx="5334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7"/>
          <p:cNvGraphicFramePr/>
          <p:nvPr/>
        </p:nvGraphicFramePr>
        <p:xfrm>
          <a:off x="930240" y="1428840"/>
          <a:ext cx="6140520" cy="1141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3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0240" y="1428840"/>
                    <a:ext cx="614052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8"/>
          <p:cNvGraphicFramePr/>
          <p:nvPr/>
        </p:nvGraphicFramePr>
        <p:xfrm>
          <a:off x="857160" y="3500280"/>
          <a:ext cx="4587840" cy="8175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25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3500280"/>
                    <a:ext cx="45878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9"/>
          <p:cNvGraphicFramePr/>
          <p:nvPr/>
        </p:nvGraphicFramePr>
        <p:xfrm>
          <a:off x="1000080" y="1785960"/>
          <a:ext cx="7170840" cy="10922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27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00080" y="1785960"/>
                    <a:ext cx="71708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0"/>
          <p:cNvGraphicFramePr/>
          <p:nvPr/>
        </p:nvGraphicFramePr>
        <p:xfrm>
          <a:off x="1000080" y="2428920"/>
          <a:ext cx="7170840" cy="9637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29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00080" y="2428920"/>
                    <a:ext cx="7170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31"/>
          <p:cNvGraphicFramePr/>
          <p:nvPr/>
        </p:nvGraphicFramePr>
        <p:xfrm>
          <a:off x="1285920" y="2928960"/>
          <a:ext cx="5904000" cy="10098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31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85920" y="2928960"/>
                    <a:ext cx="59040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2"/>
          <p:cNvGraphicFramePr/>
          <p:nvPr/>
        </p:nvGraphicFramePr>
        <p:xfrm>
          <a:off x="1000080" y="3929040"/>
          <a:ext cx="5888160" cy="107460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133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00080" y="3929040"/>
                    <a:ext cx="58881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33"/>
          <p:cNvGraphicFramePr/>
          <p:nvPr/>
        </p:nvGraphicFramePr>
        <p:xfrm>
          <a:off x="1000080" y="5357880"/>
          <a:ext cx="4813200" cy="99360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135" name="Object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000080" y="5357880"/>
                    <a:ext cx="481320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4"/>
          <p:cNvGraphicFramePr/>
          <p:nvPr/>
        </p:nvGraphicFramePr>
        <p:xfrm>
          <a:off x="2428920" y="4500720"/>
          <a:ext cx="1577880" cy="641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8" name="Object 3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28920" y="4500720"/>
                    <a:ext cx="1577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6"/>
          <p:cNvGraphicFramePr/>
          <p:nvPr/>
        </p:nvGraphicFramePr>
        <p:xfrm>
          <a:off x="4143240" y="4643280"/>
          <a:ext cx="2529000" cy="500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40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43240" y="4643280"/>
                    <a:ext cx="252900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3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Object 2"/>
          <p:cNvGraphicFramePr/>
          <p:nvPr/>
        </p:nvGraphicFramePr>
        <p:xfrm>
          <a:off x="1074600" y="785880"/>
          <a:ext cx="6343920" cy="1000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4600" y="785880"/>
                    <a:ext cx="63439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28"/>
          <p:cNvGraphicFramePr/>
          <p:nvPr/>
        </p:nvGraphicFramePr>
        <p:xfrm>
          <a:off x="995400" y="1427040"/>
          <a:ext cx="7078680" cy="1216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5400" y="1427040"/>
                    <a:ext cx="70786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28"/>
          <p:cNvGraphicFramePr/>
          <p:nvPr/>
        </p:nvGraphicFramePr>
        <p:xfrm>
          <a:off x="928800" y="2286000"/>
          <a:ext cx="7623000" cy="12859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68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8800" y="2286000"/>
                    <a:ext cx="7623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9"/>
          <p:cNvGraphicFramePr/>
          <p:nvPr/>
        </p:nvGraphicFramePr>
        <p:xfrm>
          <a:off x="928800" y="3714840"/>
          <a:ext cx="4929120" cy="13730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70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28800" y="3714840"/>
                    <a:ext cx="49291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30"/>
          <p:cNvGraphicFramePr/>
          <p:nvPr/>
        </p:nvGraphicFramePr>
        <p:xfrm>
          <a:off x="2500200" y="2928960"/>
          <a:ext cx="1295640" cy="598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3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0200" y="2928960"/>
                    <a:ext cx="12956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2"/>
          <p:cNvGraphicFramePr/>
          <p:nvPr/>
        </p:nvGraphicFramePr>
        <p:xfrm>
          <a:off x="3929040" y="3000240"/>
          <a:ext cx="1486080" cy="428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5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29040" y="3000240"/>
                    <a:ext cx="14860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3"/>
          <p:cNvGraphicFramePr/>
          <p:nvPr/>
        </p:nvGraphicFramePr>
        <p:xfrm>
          <a:off x="785880" y="4643280"/>
          <a:ext cx="7283520" cy="136368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177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85880" y="4643280"/>
                    <a:ext cx="72835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0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Object 2"/>
          <p:cNvGraphicFramePr/>
          <p:nvPr/>
        </p:nvGraphicFramePr>
        <p:xfrm>
          <a:off x="1235160" y="770040"/>
          <a:ext cx="7138800" cy="117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35160" y="770040"/>
                    <a:ext cx="71388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28"/>
          <p:cNvGraphicFramePr/>
          <p:nvPr/>
        </p:nvGraphicFramePr>
        <p:xfrm>
          <a:off x="1149480" y="2068560"/>
          <a:ext cx="5871960" cy="1058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9480" y="2068560"/>
                    <a:ext cx="58719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9"/>
          <p:cNvGraphicFramePr/>
          <p:nvPr/>
        </p:nvGraphicFramePr>
        <p:xfrm>
          <a:off x="1214280" y="3071880"/>
          <a:ext cx="4797720" cy="8506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4280" y="3071880"/>
                    <a:ext cx="4797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30"/>
          <p:cNvGraphicFramePr/>
          <p:nvPr/>
        </p:nvGraphicFramePr>
        <p:xfrm>
          <a:off x="2363760" y="2496960"/>
          <a:ext cx="1528920" cy="543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7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63760" y="2496960"/>
                    <a:ext cx="152892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1"/>
          <p:cNvGraphicFramePr/>
          <p:nvPr/>
        </p:nvGraphicFramePr>
        <p:xfrm>
          <a:off x="3935520" y="2496960"/>
          <a:ext cx="776160" cy="449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9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35520" y="2496960"/>
                    <a:ext cx="776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2"/>
          <p:cNvGraphicFramePr/>
          <p:nvPr/>
        </p:nvGraphicFramePr>
        <p:xfrm>
          <a:off x="857160" y="1643040"/>
          <a:ext cx="4572000" cy="80172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211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57160" y="1643040"/>
                    <a:ext cx="45720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8"/>
          <p:cNvGraphicFramePr/>
          <p:nvPr/>
        </p:nvGraphicFramePr>
        <p:xfrm>
          <a:off x="1643040" y="4143240"/>
          <a:ext cx="5823000" cy="105912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213" name="Object 2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43040" y="4143240"/>
                    <a:ext cx="58230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4"/>
          <p:cNvGraphicFramePr/>
          <p:nvPr/>
        </p:nvGraphicFramePr>
        <p:xfrm>
          <a:off x="1219320" y="5357880"/>
          <a:ext cx="4763880" cy="83484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215" name="Object 3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19320" y="5357880"/>
                    <a:ext cx="476388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35"/>
          <p:cNvGraphicFramePr/>
          <p:nvPr/>
        </p:nvGraphicFramePr>
        <p:xfrm>
          <a:off x="2286000" y="4643280"/>
          <a:ext cx="1430280" cy="5432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17" name="Object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286000" y="4643280"/>
                    <a:ext cx="143028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6"/>
          <p:cNvGraphicFramePr/>
          <p:nvPr/>
        </p:nvGraphicFramePr>
        <p:xfrm>
          <a:off x="3857760" y="4786200"/>
          <a:ext cx="876240" cy="449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19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857760" y="4786200"/>
                    <a:ext cx="8762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7"/>
          <p:cNvGraphicFramePr/>
          <p:nvPr/>
        </p:nvGraphicFramePr>
        <p:xfrm>
          <a:off x="857160" y="3714840"/>
          <a:ext cx="4538880" cy="803160"/>
        </p:xfrm>
        <a:graphic>
          <a:graphicData uri="http://schemas.openxmlformats.org/presentationml/2006/ole">
            <p:oleObj progId="Word.Document.12" r:id="rId26" spid="">
              <p:embed/>
              <p:pic>
                <p:nvPicPr>
                  <p:cNvPr id="221" name="Object 3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857160" y="3714840"/>
                    <a:ext cx="45388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28"/>
          <p:cNvGraphicFramePr/>
          <p:nvPr/>
        </p:nvGraphicFramePr>
        <p:xfrm>
          <a:off x="1643040" y="3643200"/>
          <a:ext cx="5823000" cy="1059120"/>
        </p:xfrm>
        <a:graphic>
          <a:graphicData uri="http://schemas.openxmlformats.org/presentationml/2006/ole">
            <p:oleObj progId="Word.Document.12" r:id="rId28" spid="">
              <p:embed/>
              <p:pic>
                <p:nvPicPr>
                  <p:cNvPr id="223" name="Object 2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43040" y="3643200"/>
                    <a:ext cx="58230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0"/>
          <p:cNvSpPr/>
          <p:nvPr/>
        </p:nvSpPr>
        <p:spPr>
          <a:xfrm>
            <a:off x="2376360" y="2736720"/>
            <a:ext cx="43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阶线性微分方程的概念，一阶线性齐次微分方程的解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1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1:45Z</dcterms:modified>
  <cp:revision>70</cp:revision>
  <dc:subject/>
  <dc:title>幻灯片 1</dc:title>
</cp:coreProperties>
</file>